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3AB-ED9B-49F6-96F3-86531E58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304-21E4-493C-A8B9-758ADAE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E23-70C1-4F64-A768-25AF2FD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A70-D2FC-42A3-B59F-3BFF592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62F-8DA9-443A-9204-C2E2D62B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5B03-C3F9-4585-A642-B93BA83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5F9-6E1C-434C-B1C3-674D6491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986D-04A2-4262-B39D-0FE4D2BB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895-45E5-4E95-86E6-643AC835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201-F0D3-490C-AF67-0B42589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E0C7-EC63-4DB9-8F19-3BA9CE6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12-77B4-4380-9AA9-81028C5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BD56-D98B-4DD5-8301-BA7E0D10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D429-B7FF-459B-A7F6-C43A5C3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A8BC-20A9-4C1F-B09A-06D43F7A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B698-FDF5-4035-8CAD-3590120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0E00-F49E-48C2-BA5A-BC9E4F9F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1C0-D3CC-4A47-A8A2-1F1A7930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2A3-615B-496E-AE6B-C3FE416F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A05-A1BC-4402-BF7E-348056C1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EA4-94B4-4584-8DEA-ECE7E80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9BE-2998-42BE-9E44-D6FB43D4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55B-DA9B-473B-BCE6-ACBEB86C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383-4610-41BB-8AC5-88801308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DE6-43F3-4501-8891-4F2628602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FF29-82F8-48DC-917B-493B138EE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Afficher l'image en taille réelle"/>
          <p:cNvPicPr/>
          <p:nvPr/>
        </p:nvPicPr>
        <p:blipFill>
          <a:blip r:embed="rId1"/>
          <a:stretch/>
        </p:blipFill>
        <p:spPr>
          <a:xfrm>
            <a:off x="7812000" y="260280"/>
            <a:ext cx="1152720" cy="101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ANd9GcT9s8mosYK_9b2S_K8x9HmnayyNdaPZGJIhrFC_wAUkJatq2zEcaw"/>
          <p:cNvPicPr/>
          <p:nvPr/>
        </p:nvPicPr>
        <p:blipFill>
          <a:blip r:embed="rId2"/>
          <a:stretch/>
        </p:blipFill>
        <p:spPr>
          <a:xfrm>
            <a:off x="2843280" y="3068640"/>
            <a:ext cx="4352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ruxelles est la capitale de la Belgiqu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7" descr="Afficher l'image en taille réelle"/>
          <p:cNvPicPr/>
          <p:nvPr/>
        </p:nvPicPr>
        <p:blipFill>
          <a:blip r:embed="rId1"/>
          <a:stretch/>
        </p:blipFill>
        <p:spPr>
          <a:xfrm>
            <a:off x="6372360" y="3933720"/>
            <a:ext cx="1368360" cy="120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309708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2920" y="184464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y trouve le siège de l’Union Européenn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2455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es antiquaires et ses marchés aux puces sont célèbr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638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’est une ville importante pour la bande dessiné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2521080" cy="19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4140360" y="4365720"/>
            <a:ext cx="4103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a ville a de nombreux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362320" cy="20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2264040" cy="1452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7561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Manneken-Pis et l’Atomium sont t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ès célèbr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195444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4643280" y="3506760"/>
            <a:ext cx="33134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frites belges sont les meilleures du mond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2808360" cy="1568160"/>
          </a:xfrm>
          <a:prstGeom prst="rect">
            <a:avLst/>
          </a:prstGeom>
          <a:ln w="0">
            <a:noFill/>
          </a:ln>
        </p:spPr>
      </p:pic>
      <p:pic>
        <p:nvPicPr>
          <p:cNvPr id="119" name="il_fi" descr="http://t3.gstatic.com/images?q=tbn:ANd9GcRWx2YT68wx3eOp5k-7Yzy1_smsEKeWc5UezJa_HOy5I2aekC6Ky2CWRh1V"/>
          <p:cNvPicPr/>
          <p:nvPr/>
        </p:nvPicPr>
        <p:blipFill>
          <a:blip r:embed="rId2"/>
          <a:stretch/>
        </p:blipFill>
        <p:spPr>
          <a:xfrm>
            <a:off x="4859280" y="4365720"/>
            <a:ext cx="3068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28:36Z</dcterms:modified>
  <cp:revision>11</cp:revision>
  <dc:subject/>
  <dc:title>Genève</dc:title>
</cp:coreProperties>
</file>